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9C2-F8E0-4455-B791-4AF76E61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974-5C6B-4593-8F25-E68725C3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870-4FBC-4E37-8B89-B5248C20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D1C-9FC4-4D61-A6BF-EABFBA2E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4A8-80B4-436A-80E7-8C8791BD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1F6-88B1-4E24-BE12-978AB8FA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7A6-1E00-44FE-A09F-8C3EF58F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100-705A-4E4F-B3DF-0F79B697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2E3-A4A9-4874-9877-564E8830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8E7-514A-4401-81C5-D8FF52BF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CC0-691E-44C9-BEC9-16E2E6E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1D3-7F8C-4A22-AFF8-2F5561A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B134-D0E1-4BCC-BAE5-544CEE8BD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eature of Malay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brant economi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895480"/>
            <a:ext cx="8218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ulti-ethnic,multi-religious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nsisting of two regions and federation of 13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ood tourist poi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xcellent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rilliant scen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thnic composi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 Malay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11280" y="1628640"/>
          <a:ext cx="8116920" cy="456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116920" cy="45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 of Malay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y have benefi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 and the civil service, ethnic Chinese hold economic power and wealthiest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60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Malay &gt;china and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1:36:13Z</dcterms:created>
  <dc:creator>Hiyoshi ITC</dc:creator>
  <dc:description/>
  <dc:language>en-US</dc:language>
  <cp:lastModifiedBy>Hiyoshi ITC</cp:lastModifiedBy>
  <dcterms:modified xsi:type="dcterms:W3CDTF">2008-11-07T01:40:23Z</dcterms:modified>
  <cp:revision>2</cp:revision>
  <dc:subject/>
  <dc:title>The feature of Malaysia</dc:title>
</cp:coreProperties>
</file>